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0C3-6BAC-449A-9B11-23591D50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82D-BCFC-4519-B466-D518B4D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C20-A34A-4962-9E63-E1652EC3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3A2-6337-4904-86EA-40DF44B6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EF7-7331-4F8D-8D92-8F81A81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F41-F8EF-40B0-B85F-43D55A22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98B-F6D0-40E2-B0D2-825247BB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13B-E61B-4DA5-B430-D2BA6BA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0BF-0AA1-454A-BB48-8CD31D9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7D5-4193-4C41-A0DD-B5C4FAF5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A52-E31C-4847-B5D7-63551E5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D4B-3C06-4015-AF57-8E90293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917-440F-43E1-9B06-BD6C3EDBE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32000" y="609588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© 2008 Bowland Charitable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0106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Fun with the sun</a:t>
            </a:r>
            <a:br>
              <a:rPr sz="4400"/>
            </a:b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- a bit of theory and an origami sund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33640" y="2733840"/>
            <a:ext cx="3600360" cy="215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19840" y="2773440"/>
            <a:ext cx="3600360" cy="2073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33640" y="2873520"/>
            <a:ext cx="360036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19840" y="2808360"/>
            <a:ext cx="3600360" cy="200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060640"/>
            <a:ext cx="6985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ou now need to make a support to hold your sundial at the correct angle for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ight angl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iangular prism where one of the angles is equal to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your angle of latitude is 5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° then the angles of the triangle will be 51°, 90° and 39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869000"/>
            <a:ext cx="1656000" cy="1224000"/>
          </a:xfrm>
          <a:prstGeom prst="rtTriangle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450828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573372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492360" y="4508640"/>
            <a:ext cx="1656000" cy="1225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40000" y="4292640"/>
            <a:ext cx="2448000" cy="720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40000" y="4221000"/>
            <a:ext cx="3024000" cy="1800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4292640"/>
            <a:ext cx="2592360" cy="1728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80708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6308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767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8500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03280" y="6093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fold a sundial like this from a sheet of 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8098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9760" y="1919160"/>
            <a:ext cx="36212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9840" y="1992240"/>
            <a:ext cx="36003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3640" y="2065320"/>
            <a:ext cx="3600360" cy="348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19840" y="2066760"/>
            <a:ext cx="3600360" cy="348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360036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73240" y="175248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19840" y="2046240"/>
            <a:ext cx="3600360" cy="3525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3640" y="2805120"/>
            <a:ext cx="3600360" cy="200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19840" y="2790720"/>
            <a:ext cx="360036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5445000"/>
            <a:ext cx="698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doesn’t matter which side you fold over –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 can have the plain or coloured side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9:51:43Z</dcterms:created>
  <dc:creator>Peter Ransom</dc:creator>
  <dc:description/>
  <dc:language>en-US</dc:language>
  <cp:lastModifiedBy>Ransom</cp:lastModifiedBy>
  <dcterms:modified xsi:type="dcterms:W3CDTF">2008-05-13T21:30:03Z</dcterms:modified>
  <cp:revision>24</cp:revision>
  <dc:subject/>
  <dc:title>Fun with the sun</dc:title>
</cp:coreProperties>
</file>